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3F07-877A-44AB-9893-D0EDF534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A4DF-4E50-4AD5-A004-C17A5A6A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1E4-A5DC-4F14-BA5F-C4A64B57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3E7-13EF-40E9-A2A9-D6B02CBC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D29C-7A2D-44B5-8A74-6FADC088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D391-ABDC-48FD-B094-32719053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02ED-65E9-4FA8-870F-C74E3E6B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90C4-8387-44F9-9C6E-29DE76F9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FB42-ADE5-4C79-BB8E-CB28D77D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8E77-1E79-4195-A60F-BF1726B5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CB28-0A66-4D5E-8DF8-F15CCA33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46B-A030-4065-B124-06795190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C7FD-5917-4EE5-9C00-7567E326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7095-05CD-438D-A21A-9165FF0C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61AD-4D53-444F-9DFC-832DD122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BC01-436A-4BBB-BF57-81008A30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D267-5AF1-4F02-93F4-844632A1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6A6-8922-44B7-9969-9DBA702D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80F-EE32-4F93-8FCB-55254E18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119-1206-4512-A9E4-2A38752F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FE96-9DA0-4722-8D6B-41BBC3F7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477-F5BB-4566-8C19-9EF17FEB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4BCE-1FCF-4F0B-83C3-271B41B5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1F9F-0A90-49D8-A123-4687D227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F5E4-D88F-45FA-8FFC-BE2E06ED84C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2A77-10FF-4DF9-91A5-F37CD09DE07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Research Ques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ow differently Traditional Chinese Medicine and Western Medicine work to cure illnesse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ompare Traditional Chinese Medicine and Western Medicin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 educate my classmates about TCM and W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Hypothesi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at Traditional Chinese Medicine is safer than Western Medicin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6966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ever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33520" y="1905120"/>
          <a:ext cx="6400800" cy="40640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33676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M - Aspiri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CM – Ling Ying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ngredien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alicylic Acid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ntelope’s Hor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ffectivenes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alts the infection that causes the body to heat up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ures heatiness that causes fever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id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Ulcers, stomach bleeding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o sid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l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63520" y="1598760"/>
          <a:ext cx="7386120" cy="4496760"/>
        </p:xfrm>
        <a:graphic>
          <a:graphicData uri="http://schemas.openxmlformats.org/drawingml/2006/table">
            <a:tbl>
              <a:tblPr/>
              <a:tblGrid>
                <a:gridCol w="2462040"/>
                <a:gridCol w="2462040"/>
                <a:gridCol w="2462040"/>
              </a:tblGrid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M – Panadol for Cold and Flu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CM – Sang Ju Yin Pia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ngredien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aracetamol, Caffein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hrysanthemum, Apricot seed, Mulberry leave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ffectivenes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ast relief from cold and flu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alts the cold virus from spreading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id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arms the liver with toxi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Few advers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ainkiller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63520" y="1598760"/>
          <a:ext cx="7386120" cy="4496760"/>
        </p:xfrm>
        <a:graphic>
          <a:graphicData uri="http://schemas.openxmlformats.org/drawingml/2006/table">
            <a:tbl>
              <a:tblPr/>
              <a:tblGrid>
                <a:gridCol w="2462040"/>
                <a:gridCol w="2462040"/>
                <a:gridCol w="2462040"/>
              </a:tblGrid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M - Voltare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CM - Acupunctur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ngredien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Diclofinac Sodium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Acupuncture needles made of very thin sterile steel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ffectivenes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Brings out a cool sensation to relieve pain and fever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e needles, after put into the body, cause warmth to relieve pai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id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e user tends to eat a lot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o sid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sthm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63520" y="1598760"/>
          <a:ext cx="7386120" cy="4496760"/>
        </p:xfrm>
        <a:graphic>
          <a:graphicData uri="http://schemas.openxmlformats.org/drawingml/2006/table">
            <a:tbl>
              <a:tblPr/>
              <a:tblGrid>
                <a:gridCol w="2462040"/>
                <a:gridCol w="2462040"/>
                <a:gridCol w="2462040"/>
              </a:tblGrid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M - Prednisolon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CM – Ping Chuan Wa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ngredien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teroid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Cortex Mori, Gecko, Phlogopitum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ffectivenes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elps to cure the inflammatory virus that causes asthma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trengthens lungs and reduces phlegm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id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in skin, swelling of body, stomach tensio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o sid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tomach ach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63520" y="1598760"/>
          <a:ext cx="7386480" cy="4562280"/>
        </p:xfrm>
        <a:graphic>
          <a:graphicData uri="http://schemas.openxmlformats.org/drawingml/2006/table">
            <a:tbl>
              <a:tblPr/>
              <a:tblGrid>
                <a:gridCol w="2462040"/>
                <a:gridCol w="2462400"/>
                <a:gridCol w="2462040"/>
              </a:tblGrid>
              <a:tr h="112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WM - Plaquenil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CM – Baohe Wa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ngredien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ydroxchloroquine Sulfat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Poria, Fructus Crataegi, Fructus Forsythrae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Effectivenes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Helps to reduce stomach aches and improves Arthritis situation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It stimulates digestion, removes retained food and regulates the stomach functio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12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Sid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Thin skin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No side effects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 have concluded that TCM is safer than WM because TCM has lesser side effects than W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erefore, I would like to present an alternative treatment to the common ailments because I think it is more usefu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t is also because I strongly believe that TCM can strengthen their health and provide a more natural healing process than W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04:28:00Z</dcterms:created>
  <dc:creator>Rosyth School</dc:creator>
  <dc:description/>
  <dc:language>en-US</dc:language>
  <cp:lastModifiedBy>Rosyth School</cp:lastModifiedBy>
  <dcterms:modified xsi:type="dcterms:W3CDTF">2010-11-29T05:49:00Z</dcterms:modified>
  <cp:revision>3</cp:revision>
  <dc:subject/>
  <dc:title>Fever</dc:title>
</cp:coreProperties>
</file>